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50943-534A-4D45-9BB4-365CA8F1E2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E5C9B-ACB8-432F-B577-ECF6542F9C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8D735-75D7-4549-99E4-2C72425371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A852F-2A8C-4117-93AB-06E4DC29E2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0CEC4-7DA8-4CB1-861F-F00118BE7D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9143F-3E7E-4A59-B18B-E4B780B13D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C2BA4-705C-400A-AE4C-B2C7EFC3D2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1B2FB-7843-4DC1-B8BA-EE14C6A087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D4612-B4EE-4BF2-A0E7-C57A9B4975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DDB6-A06E-42A7-B995-AAFEED69A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C6A4-4619-4138-92F3-BDB3AB120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C73E-C032-47AB-8A3A-6032D5258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2193-7990-4685-AE5F-BFB8E81F1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CC0C7-0D09-46AF-9CB3-432625BB3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9A7E4-D1CA-47D2-9169-43D306FB9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66A34-981F-4EF5-988D-1367AEB82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B0859-6465-4506-AF76-4C2CC8AF4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222C7-C797-48DC-809E-BEEF76210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F0231-790D-492C-B7B9-A85BE91FB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42722-2E4E-42AB-A361-A05365DA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1FA0-61ED-40F1-94C6-794D370CA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77964-FB76-4BD5-A48C-B166D9F8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40160-0487-43CE-AE68-7406C1C0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21521-A7E0-4244-B3E6-64178CC03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78862-9370-448A-B8CB-1F4E077A3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EC3E2-F294-4895-8163-F9132FD72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2A720-9939-49EF-9760-574DFD1C1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272C2-00F6-4FAF-B08F-9BDEA90B4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EBD19-2CE6-48F2-99E6-60429E2F6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E46B4-8CD2-408F-A21C-3DFF4FE1A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0A13A-F34F-44ED-A95F-C691DD9FD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90D7-8482-49FF-AD63-AE85B4242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7320F-BB94-45F5-82BF-230507A0A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62734-2E62-4360-AA4A-1267B2AD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5568B-FB7A-4D9E-ACBE-EE8645146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BA86C-B089-41AE-BB55-C639A1D6C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52641-294A-4746-9504-E96977F45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5A47C-8918-4B48-9D86-3E9BCD5A9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7A9D7-3374-418D-B210-43F8C7CE8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E9332-5CAC-4509-908B-7D54F1AB9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D849B-AC72-4422-B06E-4012095CD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202EA-73DE-4536-8331-6C09C2242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F0B6-18FD-426F-A81C-4AE4741B1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555C9-A0A4-4243-B07B-6D2543041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7C4DC-7AA6-4ADC-AFC6-D4763D483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31685-51A0-4C40-BA2E-980FB4990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09F34-8C21-45A6-A44B-70C95D6C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75835-2731-4EF2-B458-C3AC7C78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C7B53-68BD-4738-9D12-8754F1AA8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44961-402D-490A-880C-0581E8B2D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87A05-95D0-446C-866E-951279D66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2F79C-AD85-401C-950B-BF5C65A90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69BEBB-5869-4D8F-B487-57C833645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6381-F10E-499A-B16C-5148AF42B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3CC5C-0BCB-4EF8-93A0-E0A9C2235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1BC81-3367-4D19-B341-174337CAA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5370B-70D4-47BA-9295-FEE5EA8A3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FAFA4D-4109-4EDC-BD77-4B687D776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5E2BE-6995-4732-B9E9-370C97E11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0A03F9-04FA-4CE4-8AF5-EA9DC7301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77AD08-D7BD-497C-8444-EB690122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F8C5B-6363-4BEE-BFF2-3C9F5EF8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D3B65-4F03-4DDA-8532-B55C92A65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C484DE-0647-403F-8831-8200CB3B6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A806-6C9A-4AF7-965E-113002218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5C221-B6C8-4AE7-9B1B-91EA84340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451F23-80B7-4F43-9ABE-CD22290D4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CF8E51-EA57-47ED-A305-649C87C64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55F81F-CDC9-430E-BEDD-19F9A99F1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219EBA-7471-4405-B177-09DCBAFD6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7CF938-3FB7-46B8-B4B1-BC72EC444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4DDD42-20D8-453C-B1ED-0174E320F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4B5EAC-3791-47A2-9642-CA8FB5BDC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CFF00C-EC0B-4467-9577-0741F1BE9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7B47AA-CDC1-4179-ADE4-90469B4D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65CC-58F3-4D1E-87BE-6C4A30146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87E440-4948-41C1-9C23-D5835E3BE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19C008-9AEB-47A7-9BA0-CEEFC0711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29898F-287E-4F22-B208-28A7D00F7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FE5D26-EEED-4861-9BC7-1CC355B63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53DBBA-9293-421A-9FC3-0D62934E9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6B2B88-87BC-4DF6-8E53-5C9E3F10D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7CC30D-F7B1-45C9-B7C5-CF162AA04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09A1B4-E263-481C-8831-E61B0FD38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E33347-8926-4D37-93D7-460C77059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22AD95-2A5A-4FFA-960E-031DE3F9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16C5-0147-4F2B-99EB-28B71030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090E97-04C1-4B4A-8CF6-BEA39F17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62C92C-4745-4EEA-9CA5-ADA86D39F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E8ECCB-05E7-4127-8AFB-32DE45A36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B22EF1-A8F3-4F53-92EB-91E825525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0A8909-F6BD-440E-9713-77C79360D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B47C-C085-41D1-809B-BF607078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9CF35-55FE-4A13-AD0E-78ACB809F778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11E11-370C-46E5-8DC8-38DD7875B2B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1A33F-DF99-4B26-B909-711B825B244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C0DD5-F599-47D1-BC54-E8FE8E5E3BDE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CE2E1-2725-4DA0-84C0-8DC377C44C66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77464-D818-4044-8DF6-AC32CDAF6585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F15B1-6876-41A3-833C-8E6A40E7788A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396720" y="3157560"/>
            <a:ext cx="8375760" cy="187812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ave power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cale down power rai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Ensure Reliability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Issues with variation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Issues with timing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Identify and Replace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Use custom cel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Use different cell from library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Title 1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456840" y="1698120"/>
            <a:ext cx="4040280" cy="716040"/>
          </a:xfrm>
          <a:prstGeom prst="rect">
            <a:avLst/>
          </a:prstGeom>
          <a:noFill/>
          <a:ln w="0">
            <a:noFill/>
          </a:ln>
        </p:spPr>
        <p:txBody>
          <a:bodyPr lIns="146160" rIns="90000" tIns="91440" bIns="46800" anchor="ctr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orbel"/>
              </a:rPr>
              <a:t>TOOL FLOW</a:t>
            </a: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6" name="Picture 3" descr=""/>
          <p:cNvPicPr/>
          <p:nvPr/>
        </p:nvPicPr>
        <p:blipFill>
          <a:blip r:embed="rId2"/>
          <a:stretch/>
        </p:blipFill>
        <p:spPr>
          <a:xfrm>
            <a:off x="1676520" y="2298600"/>
            <a:ext cx="1263600" cy="414036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644720" y="1698120"/>
            <a:ext cx="4041720" cy="716040"/>
          </a:xfrm>
          <a:prstGeom prst="rect">
            <a:avLst/>
          </a:prstGeom>
          <a:noFill/>
          <a:ln w="0">
            <a:noFill/>
          </a:ln>
        </p:spPr>
        <p:txBody>
          <a:bodyPr lIns="146160" rIns="90000" tIns="91440" bIns="46800"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rbel"/>
              </a:rPr>
              <a:t>FUNCTION</a:t>
            </a: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644720" y="244944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Uses Perl to open path and write celllist.ls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kill and Perl work together to generate schematic with all cell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tart Cadence and collect info with log fil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itle 1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456840" y="1698120"/>
            <a:ext cx="4040280" cy="716040"/>
          </a:xfrm>
          <a:prstGeom prst="rect">
            <a:avLst/>
          </a:prstGeom>
          <a:noFill/>
          <a:ln w="0">
            <a:noFill/>
          </a:ln>
        </p:spPr>
        <p:txBody>
          <a:bodyPr lIns="146160" rIns="90000" tIns="91440" bIns="46800"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rbel"/>
              </a:rPr>
              <a:t>TOOL FLOW</a:t>
            </a: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644720" y="1698120"/>
            <a:ext cx="4041720" cy="716040"/>
          </a:xfrm>
          <a:prstGeom prst="rect">
            <a:avLst/>
          </a:prstGeom>
          <a:noFill/>
          <a:ln w="0">
            <a:noFill/>
          </a:ln>
        </p:spPr>
        <p:txBody>
          <a:bodyPr lIns="146160" rIns="90000" tIns="91440" bIns="46800"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rbel"/>
              </a:rPr>
              <a:t>FUNCTION</a:t>
            </a: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644720" y="244944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7000"/>
          </a:bodyPr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kill Creates secondary library of cells for testing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Big ocean created with Perl which contains test information for each cel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Ocean runs and creates individual result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Perl script checks output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1828800" y="2489040"/>
            <a:ext cx="1219320" cy="41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Title 1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" descr="C:\Users\Steve Jocke\Desktop\cell setup.bmp"/>
          <p:cNvPicPr/>
          <p:nvPr/>
        </p:nvPicPr>
        <p:blipFill>
          <a:blip r:embed="rId2"/>
          <a:stretch/>
        </p:blipFill>
        <p:spPr>
          <a:xfrm>
            <a:off x="0" y="2438280"/>
            <a:ext cx="9144000" cy="441972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3"/>
          <p:cNvSpPr/>
          <p:nvPr/>
        </p:nvSpPr>
        <p:spPr>
          <a:xfrm>
            <a:off x="0" y="1447920"/>
            <a:ext cx="9144000" cy="990360"/>
          </a:xfrm>
          <a:prstGeom prst="rect">
            <a:avLst/>
          </a:prstGeom>
          <a:solidFill>
            <a:srgbClr val="bac0cc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TextBox 4"/>
          <p:cNvSpPr/>
          <p:nvPr/>
        </p:nvSpPr>
        <p:spPr>
          <a:xfrm>
            <a:off x="0" y="1447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The figure below displays a typical testing setup for a cell from the ST 120 library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Another thought to keep in mind is the timing of the waveforms of the inputs.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" descr=""/>
          <p:cNvPicPr/>
          <p:nvPr/>
        </p:nvPicPr>
        <p:blipFill>
          <a:blip r:embed="rId2"/>
          <a:stretch/>
        </p:blipFill>
        <p:spPr>
          <a:xfrm>
            <a:off x="380880" y="1676520"/>
            <a:ext cx="5257800" cy="4535280"/>
          </a:xfrm>
          <a:prstGeom prst="rect">
            <a:avLst/>
          </a:prstGeom>
          <a:ln w="0">
            <a:noFill/>
          </a:ln>
        </p:spPr>
      </p:pic>
      <p:sp>
        <p:nvSpPr>
          <p:cNvPr id="330" name="TextBox 4"/>
          <p:cNvSpPr/>
          <p:nvPr/>
        </p:nvSpPr>
        <p:spPr>
          <a:xfrm>
            <a:off x="5867280" y="1676520"/>
            <a:ext cx="3048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Want a process TT (typical N&amp;P) to sit on the balanced process line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These effects are amplified due to the exponential dependence on current in sub-threshold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SF corner is a worst case scenario in P-Strong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(left box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FS corner is the worst case scenario in N-Strong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(right box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Title 1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456840" y="1698120"/>
            <a:ext cx="4040280" cy="716040"/>
          </a:xfrm>
          <a:prstGeom prst="rect">
            <a:avLst/>
          </a:prstGeom>
          <a:noFill/>
          <a:ln w="0">
            <a:noFill/>
          </a:ln>
        </p:spPr>
        <p:txBody>
          <a:bodyPr lIns="146160" rIns="90000" tIns="91440" bIns="46800"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rbel"/>
              </a:rPr>
              <a:t>ST MICRO 90 (715 CELLS)</a:t>
            </a: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56840" y="244944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Includes D FF’s &amp; D latche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Tested at Tmin = 2 uSec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Vdd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FF TT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SS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FS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SF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.35      20 20  18  15  24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.3         17 21  21  15   35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.25      20 20 20  15   49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.2        22 19  21  13   57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644720" y="1698120"/>
            <a:ext cx="4041720" cy="716040"/>
          </a:xfrm>
          <a:prstGeom prst="rect">
            <a:avLst/>
          </a:prstGeom>
          <a:noFill/>
          <a:ln w="0">
            <a:noFill/>
          </a:ln>
        </p:spPr>
        <p:txBody>
          <a:bodyPr lIns="146160" rIns="90000" tIns="91440" bIns="46800"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rbel"/>
              </a:rPr>
              <a:t>ST MICRO 120 (698 CELLS)</a:t>
            </a: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644720" y="244944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Includes D FF’s &amp; D latche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Tested at Tmin = 2 uSec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Vdd  FF TT SS FS SF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.35     22 25  29  10  35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.3       25 25  28   8   41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.25    25 27   27   8   41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.2      25 29  29   8   41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Title 1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456840" y="1698120"/>
            <a:ext cx="4040280" cy="716040"/>
          </a:xfrm>
          <a:prstGeom prst="rect">
            <a:avLst/>
          </a:prstGeom>
          <a:noFill/>
          <a:ln w="0">
            <a:noFill/>
          </a:ln>
        </p:spPr>
        <p:txBody>
          <a:bodyPr lIns="146160" rIns="90000" tIns="91440" bIns="46800" anchor="ctr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rbel"/>
              </a:rPr>
              <a:t>ST MICRO 90 (715 CELLS)</a:t>
            </a: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6840" y="244944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Not Including D FF’s &amp; D latches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Tested at Tmin = 2 uSec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Vdd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FF TT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SS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FS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SF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.35       4    4   4    4    5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.3         4    4   4    4     5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.25      4    4   4    4     5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.2        4    4   4    4     5      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644720" y="1698120"/>
            <a:ext cx="4041720" cy="716040"/>
          </a:xfrm>
          <a:prstGeom prst="rect">
            <a:avLst/>
          </a:prstGeom>
          <a:noFill/>
          <a:ln w="0">
            <a:noFill/>
          </a:ln>
        </p:spPr>
        <p:txBody>
          <a:bodyPr lIns="146160" rIns="90000" tIns="91440" bIns="46800" anchor="ctr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rbel"/>
              </a:rPr>
              <a:t>ST MICRO 120 (698 CELLS)</a:t>
            </a: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644720" y="244944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Not Including D FF’s &amp; D latches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Tested at Tmin = 2 uSec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Vdd  FF TT SS FS SF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.35     5    5    5     5    5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.3       5    5    5     5    5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.25    5    5    5     5     5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.2      5    5    13   8     5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2T23:46:49Z</dcterms:created>
  <dc:creator>Steve Jocke</dc:creator>
  <dc:description/>
  <dc:language>en-US</dc:language>
  <cp:lastModifiedBy>Steve Jocke</cp:lastModifiedBy>
  <dcterms:modified xsi:type="dcterms:W3CDTF">2007-12-04T18:03:27Z</dcterms:modified>
  <cp:revision>146</cp:revision>
  <dc:subject/>
  <dc:title>Slide 1</dc:title>
</cp:coreProperties>
</file>